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3.gif" ContentType="image/gi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EC9-4272-4CCB-9463-70B96E06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743-8386-49BB-A39D-B322483E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59E-9452-43B5-8605-63F1BD43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E92-2CD8-4230-8C65-04C6ADB9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009-64C9-436E-905D-5F565309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6BE-C6E1-44EA-9C05-31F5079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126-DB53-4C48-955A-985B5748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CB1-D7F0-4333-A6EE-C0B7E732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003-2C54-455F-B43B-BB36BB92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881-7740-4AD4-885B-D407EBC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7F8-D13B-42E6-B9D3-C4F08B4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A26-8F91-4440-AA68-8E48238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FC50-2680-4FC0-A770-D51AB01E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304920" y="1022400"/>
            <a:ext cx="53316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09480" y="874800"/>
            <a:ext cx="60984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289548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第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12</a:t>
            </a:r>
            <a:r>
              <a:rPr b="0" lang="zh-CN" sz="4000" spc="-1" strike="noStrike">
                <a:solidFill>
                  <a:srgbClr val="009900"/>
                </a:solidFill>
                <a:latin typeface="Tahoma"/>
              </a:rPr>
              <a:t>章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44197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  <a:ea typeface="黑体"/>
              </a:rPr>
              <a:t>组合模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19520" y="5468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刘    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eiliu_china@yahoo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的关键是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定义了一个抽象构件类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它既可以代表叶子，又可以代表容器，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客户端针对该抽象构件类进行编程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无须知道它到底表示的是叶子还是容器，可以对其进行统一处理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同时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容器对象与抽象构件类之间还建立一个聚合关联关系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在容器对象中既可以包含叶子，也可以包含容器，以此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实现递归组合，形成一个树形结构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文件系统组合模式结构图：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162560" cy="3808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6994440" y="98280"/>
            <a:ext cx="20732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典型的抽象构件角色代码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90720" y="3048120"/>
          <a:ext cx="7391160" cy="272412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274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class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void add(Component c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void remove(Component c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Component getChild(int i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abstract void operation(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典型的叶子构件角色代码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90720" y="3048120"/>
          <a:ext cx="7391160" cy="346212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347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Leaf extends Com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add(Component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 //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异常处理或错误提示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remove(Component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 //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异常处理或错误提示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omponent getChild(int 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 //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异常处理或错误提示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operation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//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实现代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典型的容器构件角色代码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90720" y="685800"/>
          <a:ext cx="7391160" cy="58104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8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lass Composite extends Com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rivate ArrayList list = new ArrayList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add(Component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list.add(c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remove(Component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list.remove(c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Component getChild(int 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(Component)list.get(i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public void operation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for(Object obj:li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((Component)obj).operation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}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ahoma"/>
                          <a:ea typeface="隶书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组合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一：水果盘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在水果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late)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中有一些水果，如苹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Apple)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、香蕉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Banana)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、梨子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ear)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，当然大水果盘中还可以有小水果盘，现需要对盘中的水果进行遍历（吃），当然如果对一个水果盘执行“吃”方法，实际上就是吃其中的水果。使用组合模式模拟该场景。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2749680" y="4494240"/>
            <a:ext cx="34225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组合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一：水果盘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401760" y="3006720"/>
            <a:ext cx="84373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组合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一：水果盘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参考代码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Chapter 12 Composite\sample01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325680" y="3762360"/>
            <a:ext cx="2160360" cy="812160"/>
            <a:chOff x="3325680" y="3762360"/>
            <a:chExt cx="2160360" cy="812160"/>
          </a:xfrm>
        </p:grpSpPr>
        <p:pic>
          <p:nvPicPr>
            <p:cNvPr id="132" name="Picture 6" descr="gif005"/>
            <p:cNvPicPr/>
            <p:nvPr/>
          </p:nvPicPr>
          <p:blipFill>
            <a:blip r:embed="rId1"/>
            <a:stretch/>
          </p:blipFill>
          <p:spPr>
            <a:xfrm>
              <a:off x="3325680" y="3762360"/>
              <a:ext cx="399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7"/>
            <p:cNvSpPr/>
            <p:nvPr/>
          </p:nvSpPr>
          <p:spPr>
            <a:xfrm>
              <a:off x="3686040" y="4114800"/>
              <a:ext cx="1800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行楷"/>
                  <a:ea typeface="华文行楷"/>
                </a:rPr>
                <a:t>演示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  <a:ea typeface="华文行楷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组合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二：文件浏览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文件有不同类型，不同类型的文件其浏览方式有所区别，如文本文件和图片文件的浏览方式就不相同。对文件夹的浏览实际上就是对其中所包含文件的浏览，而客户端可以一致地对文件和文件夹进行操作，无须关心它们的区别。使用组合模式来模拟文件的浏览操作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组合模式实例与解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实例二：文件浏览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76320" y="2133720"/>
            <a:ext cx="90662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教学内容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组合模式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动机与定义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结构与分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实例与解析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效果与应用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扩展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" name="Picture 6" descr="13e4e9d925c50438"/>
          <p:cNvPicPr/>
          <p:nvPr/>
        </p:nvPicPr>
        <p:blipFill>
          <a:blip r:embed="rId1"/>
          <a:stretch/>
        </p:blipFill>
        <p:spPr>
          <a:xfrm>
            <a:off x="5334120" y="1523880"/>
            <a:ext cx="232416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639172595_fd5b3f7985"/>
          <p:cNvPicPr/>
          <p:nvPr/>
        </p:nvPicPr>
        <p:blipFill>
          <a:blip r:embed="rId2"/>
          <a:srcRect l="0" t="0" r="0" b="5879"/>
          <a:stretch/>
        </p:blipFill>
        <p:spPr>
          <a:xfrm>
            <a:off x="4933800" y="4038480"/>
            <a:ext cx="3524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组合模式的优点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可以清楚地定义</a:t>
            </a: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分层次的复杂对象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，表示对象的全部或部分层次，使得增加新构件也更容易。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客户端调用简单，</a:t>
            </a: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客户端可以一致的使用组合结构或其中单个对象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定义了包含叶子对象和容器对象的</a:t>
            </a: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类层次结构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，叶子对象可以被组合成更复杂的容器对象，而这个容器对象又可以被组合，这样不断递归下去，</a:t>
            </a: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可以形成复杂的树形结构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更容易在组合体内加入对象构件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，客户端不必因为加入了新的对象构件而更改原有代码。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优缺点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的缺点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使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设计变得更加抽象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，对象的业务规则如果很复杂，则实现组合模式具有很大挑战性，而且不是所有的方法都与叶子对象子类都有关联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增加新构件时可能会产生一些问题，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很难对容器中的构件类型进行限制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适用环境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在以下情况下可以使用组合模式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需要表示一个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对象整体或部分层次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，在具有整体和部分的层次结构中，希望通过一种方式忽略整体与部分的差异，可以一致地对待它们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让客户能够忽略不同对象层次的变化，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客户端可以针对抽象构件编程，无须关心对象层次结构的细节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对象的结构是动态的并且复杂程度不一样，但客户需要一致地处理它们</a:t>
            </a:r>
            <a:r>
              <a:rPr b="0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(1) XML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文档解析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895480"/>
          <a:ext cx="7924680" cy="3633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6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?xml version="1.0"?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books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book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author&gt;Carson&lt;/autho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price format="dollar"&gt;31.95&lt;/pric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pubdate&gt;05/01/2001&lt;/pubdat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/book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pubinfo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publisher&gt;MSPress&lt;/publishe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state&gt;WA&lt;/stat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/pubinfo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隶书"/>
                        </a:rPr>
                        <a:t>&lt;/books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22" descr="IC120112"/>
          <p:cNvPicPr/>
          <p:nvPr/>
        </p:nvPicPr>
        <p:blipFill>
          <a:blip r:embed="rId1"/>
          <a:stretch/>
        </p:blipFill>
        <p:spPr>
          <a:xfrm>
            <a:off x="3505320" y="1066680"/>
            <a:ext cx="54338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2)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操作系统中的目录结构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是一个树形结构，因此在对文件和文件夹进行操作时可以应用组合模式，例如杀毒软件在查毒或杀毒时，既可以针对一个具体文件，也可以针对一个目录。如果是对目录查毒或杀毒，将递归处理目录中的每一个子目录和文件。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应用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3) 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JDK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的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AWT/Swing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是组合模式在</a:t>
            </a: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Java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类库中的一个典型实际应用。 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53" name="Picture 21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2072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更复杂的组合模式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95440" y="3124080"/>
            <a:ext cx="7939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透明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561996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扩展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安全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905120" y="2863800"/>
            <a:ext cx="60577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组合模式用于组合多个对象形成树形结构以表示“整体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部分”的结构层次。组合模式对单个对象（即叶子对象）和组合对象（即容器对象）的使用具有一致性。组合模式又可以称为“整体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部分”模式，属于对象的结构模式，它将对象组织到树结构中，可以用来描述整体与部分的关系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组合模式包含三个角色：抽象构件为叶子构件和容器构件对象声明接口，在该角色中可以包含所有子类共有行为的声明和实现；叶子构件在组合结构中表示叶子节点对象，叶子节点没有子节点；容器构件在组合结构中表示容器节点对象，容器节点包含子节点，其子节点可以是叶子节点，也可以是容器节点，它提供一个集合用于存储子节点，实现了在抽象构件中定义的行为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组合模式的关键是定义了一个抽象构件类，它既可以代表叶子，又可以代表容器，而客户端针对该抽象构件类进行编程，无须知道它到底表示的是叶子还是容器，可以对其进行统一处理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1541520" y="2514600"/>
            <a:ext cx="2344680" cy="394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2"/>
          <a:stretch/>
        </p:blipFill>
        <p:spPr>
          <a:xfrm>
            <a:off x="4227480" y="3408480"/>
            <a:ext cx="41544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本章小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组合模式的主要优点在于可以方便地对层次结构进行控制，客户端调用简单，客户端可以一致的使用组合结构或其中单个对象，用户就不必关心自己处理的是单个对象还是整个组合结构，简化了客户端代码；其缺点在于使设计变得更加抽象，且增加新构件时可能会产生一些问题，而且很难对容器中的构件类型进行限制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组合模式适用情况包括：需要表示一个对象整体或部分层次；让客户能够忽略不同对象层次的变化，客户端可以针对抽象构件编程，无须关心对象层次结构的细节；对象的结构是动态的并且复杂程度不一样，但客户需要一致地处理它们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</a:rPr>
              <a:t>组合模式根据抽象构件类的定义形式，又可以分为透明组合模式和安全组合模式。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MS UI Gothic"/>
                <a:ea typeface="MS UI Gothic"/>
              </a:rPr>
              <a:t>END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981080" y="2852640"/>
            <a:ext cx="533412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对于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树形结构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当容器对象（如文件夹）的某一个方法被调用时，将遍历整个树形结构，寻找也包含这个方法的成员对象（可以是容器对象，也可以是叶子对象，如子文件夹和文件）并调用执行。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（递归调用）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由于容器对象和叶子对象在功能上的区别，在使用这些对象的客户端代码中必须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有区别地对待容器对象和叶子对象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而实际上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大多数情况下客户端希望一致地处理它们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因为对于这些对象的区别对待将会使得程序非常复杂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描述了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如何将容器对象和叶子对象进行递归组合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使得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用户在使用时无须对它们进行区分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可以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一致地对待容器对象和叶子对象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这就是组合模式的模式动机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Composite Pattern)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：组合多个对象形成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树形结构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以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表示“整体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部分”的结构层次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组合模式对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单个对象（即叶子对象）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组合对象（即容器对象）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使用具有一致性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又可以称为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“整体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部分”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(Part-Whole)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模式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属于对象的结构模式，它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将对象组织到树结构中，可以用来描述整体与部分的关系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mposite Pattern: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mpose objects into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tree structures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to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represent part-whole hierarchies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. Composite lets clients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treat individual objects and compositions of objects uniformly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Frequency of use: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medium high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02" name="Picture 7" descr="use_medium_high"/>
          <p:cNvPicPr/>
          <p:nvPr/>
        </p:nvPicPr>
        <p:blipFill>
          <a:blip r:embed="rId1"/>
          <a:stretch/>
        </p:blipFill>
        <p:spPr>
          <a:xfrm>
            <a:off x="6400800" y="4330800"/>
            <a:ext cx="1600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1254240" y="2209680"/>
            <a:ext cx="68990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组合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组合模式包含如下角色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omponent: 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抽象构件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eaf: 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叶子构件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omposite: 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容器构件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ent: 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客户类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伟</cp:lastModifiedBy>
  <dcterms:modified xsi:type="dcterms:W3CDTF">2011-12-06T09:46:39Z</dcterms:modified>
  <cp:revision>10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